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2FA9-5CE2-4EA0-A5B3-D819981764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BBC8-A962-409B-9CF3-E199D681C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360E-F9BE-45A0-A74C-0419D6804D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4882-ED09-402A-9CBB-D5546F2547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D1F3-D1F4-430A-AF10-A693F4CED4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0137-A61F-404F-8302-584616CA41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FE72-8D64-45D2-AC8E-F83035C738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3B80-90E3-4F4C-9106-C8B66031A3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DC42-CA7A-48C9-8A65-A8CAC91E12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09E8-9FD8-4C9A-9FB9-937D061DD5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2BD5-B339-4B3A-9CD0-71C9A9A3D8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7181-ABC2-427C-A1E9-6713887C64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0029-B548-4368-8D1C-637C601839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C504-0F79-420E-AE29-6C145D028C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AE51-ECE8-431C-A59E-993B88DDD1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E11B-17FD-4813-9A7B-1566173220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35F7-9D36-4AF1-973A-B6E5AA19F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4BFC-9B78-464E-BC8E-F162D90AB6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3FD9-25F5-46D8-8658-D41FF8CEAC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91B8-A567-4FB3-94A7-7D9B909F86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EEDB-FCA6-480C-B339-9013EC6015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A522-847D-4EB0-A08B-928AA5ECD1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D9C5-1DB2-4DF0-9E74-7EDAE02149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E366-0207-470E-ADB8-A9082F0ED3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9F8C-B1F6-45DC-9E0F-9127714C41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890C-E965-4483-A9EE-BBAA989126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DA5D-B366-4602-92FA-B37FFC80A7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2455-4C12-4B0E-AEAE-1FDC8F2652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5654-1733-40EE-B322-448A7B46B9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C9EE-4638-40E5-8962-F0D15ED980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2F4B-689C-4CCF-9E8D-75BA197AB4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668F-E898-4C6F-9666-1C5C22907F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51B1-1BC7-43B8-8BFB-54BE261C13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6B08-6926-4D3E-889A-AB6443B867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999F-A582-4837-AD55-D8778A7C2F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27D-F243-4961-9110-F75F12DE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EB8-6F0E-4E4D-973C-0A013F3B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D25-5964-4BA3-AC90-39D5590E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937-BE2E-45FE-AF9B-6DD95984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41B3-685E-44F3-8103-646B9CEA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1201-969B-4E37-B120-6EBF97C1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E3BB-DB2B-45A4-94BC-AC3C6758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651F-26AC-40BF-97C9-AFC3973C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AE1B-B7C7-48C4-9B63-0783854D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E6C8-6C55-4B79-8F0C-62A951E7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9101-0740-40BE-807B-4C9A15A1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FEA-051D-47B0-92C7-8C2FC946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36AC-6D8F-4C47-92CE-B0F5E364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679C-706B-46D8-BE00-E57BB0B8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0DD5-0F04-4A22-A7E9-97744839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C81C-6430-4A1C-8481-25618CE5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D772-0A5D-4E42-8D54-8B0A1901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9FF75-8F8D-439D-9BC6-FEB088AD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2AD4-A3B6-4E3F-8979-0384DC20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E548F-4D80-43AC-BC43-C5D7B05F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7F1D0-41FF-4B2A-8966-0875DFF3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1CEA3-40C5-4EDA-BD57-FF5CC571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000-BBD6-4082-B240-4B81CDF8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209E9-AE65-4E1C-8B3F-CA157BA9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F2376-342E-4DB9-8BB1-35DF0F87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5014-5F95-46F5-B1A3-F0E5C953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3692B-FF60-4E8F-AE29-A89B2E17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D99AE-787C-42EC-8377-1A44A61F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B1DE7-9DB2-4E6D-98C1-CDCF86CC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AC389-BC9E-46BD-9779-424E4D23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6B3DE-DA22-463F-A777-2448D915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66CCD-B9BB-4A21-BE77-937BA0A0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81B3B-23DF-4FAD-915B-18965740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8B8-AE3D-458B-BA19-C2D9B236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A17A0-7121-4890-9AE2-CB8099F6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D189D-6F15-405A-AC84-C9826DDC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C05CC-80B7-491D-B5D4-905DBF9C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EC1C9-657D-40E0-89E1-1AE5CF95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692B0-75C2-4898-9803-C189AF1A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A465A-1440-471B-9860-D85EBF8F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8A035-B457-413B-A374-48D18400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894B6-FBAC-46B6-A528-8408A734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64C4D-089A-4675-B3B6-3FF3A7FC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CAE37-3BB1-4572-92C2-6B3A78B5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19F-609D-4137-B368-9311E677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028A5-4EC7-4DFC-A628-7734BB37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C6FC0-0938-4E33-846C-3B8E987E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6AC8D-6781-4CD8-99FC-85CEE2DE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376B9-233A-4F78-8DD2-E478CA37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40874-CCC8-4F01-BE05-AB07D43B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606D4-EBA1-4F00-A322-2A4EB141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0B3F7-63D0-435F-A565-874117D4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CB2A7-435B-43D0-A595-C2A6C6E7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030A2-621D-466A-8C33-3B63BFBE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51ACB-EA74-4B06-9FE8-797E5A47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576-1B27-47F0-A55F-50C0F760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8BC2C-D9C0-41A5-8252-4C660344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C4825-F65D-451E-BBB1-D01C7A9F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BA4D7-F37B-42EB-99E1-DF975BDE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85132-541A-485C-86B9-E12D7728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E8F1B-AF19-42B0-8594-008D98F1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97B22-0DB5-4C75-8122-FD2C7F5E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E1794-523E-497C-AC35-94C7B5F6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DDDDA-45A4-4F33-8AA8-14CAC773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37DAF-FFBC-4AAD-B318-3D0DD638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FA143-C32F-48D3-9C2C-EAE02987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B1B-004F-4818-8430-4CE397B3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1B5C9-D0FA-478C-80D2-B7E8D38D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09480-68CC-482A-BFB6-5132F371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780FD-0C04-45D6-9DA7-BA8E282C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CB951-0C4A-4CB4-8A4E-F601E38F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2A4A0-BDFE-4EC9-85A6-39F438CF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1FA7C-8A23-4501-9DE5-501CA2FD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C4E85-FB2B-4035-B290-F10A6AC5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F00DB-C4BA-4810-B690-780D1EB9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A8926-CCF4-43DB-9189-53C5F457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7C3C1-11D9-426C-9E27-D6EF61AF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327-E85E-4813-8A3E-86BC5C5D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1E6FA-5BEC-4077-BB14-885C4759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978BC-50EE-4704-91E9-0BE3803B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E4896-068E-41F3-BFB5-FC4BCA44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0E781-D6D6-49CD-A396-4F8FF284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87809-64EB-4231-B1FE-7DF1D7E1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DEA-22D2-4F7E-B0F0-3EE1D0A8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FE7A-E793-4E67-AA31-79C5B1A4F70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DF40-A42C-42E0-952C-9C698F10DD9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129E-73B4-4F9B-8435-8C1AE58DDFB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CF10-4923-4E23-9A8E-3BE5DB957F4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47A7-F2D0-4176-8D2E-5494CCD2165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14DA-71D8-4E2A-9421-4E714CBCC03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9A3F-4086-472E-8842-61727D6A72A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785520"/>
            <a:ext cx="74073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Data Structures and Algorithms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99760" y="2857680"/>
            <a:ext cx="6124680" cy="2357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0e04"/>
                </a:solidFill>
                <a:latin typeface="Gill Sans MT"/>
              </a:rPr>
              <a:t>Lecture 12 and 13 (Queu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0e04"/>
                </a:solidFill>
                <a:latin typeface="Gill Sans MT"/>
              </a:rPr>
              <a:t>Instructor:   Quratula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20e04"/>
                </a:solidFill>
                <a:latin typeface="Gill Sans MT"/>
              </a:rPr>
              <a:t>Date:  22 and 27 October,  2009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20e04"/>
                </a:solidFill>
                <a:latin typeface="Gill Sans MT"/>
              </a:rPr>
              <a:t>Faculty of Computer Science, IB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queue Ope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219320" y="1447560"/>
            <a:ext cx="71388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Object dequeue() throws Exception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empty() 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throw new Exception(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return store[front++]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3124080" y="5638680"/>
            <a:ext cx="5715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5"/>
          <p:cNvSpPr/>
          <p:nvPr/>
        </p:nvSpPr>
        <p:spPr>
          <a:xfrm>
            <a:off x="36576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"/>
          <p:cNvSpPr/>
          <p:nvPr/>
        </p:nvSpPr>
        <p:spPr>
          <a:xfrm>
            <a:off x="41911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"/>
          <p:cNvSpPr/>
          <p:nvPr/>
        </p:nvSpPr>
        <p:spPr>
          <a:xfrm>
            <a:off x="472428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8"/>
          <p:cNvSpPr/>
          <p:nvPr/>
        </p:nvSpPr>
        <p:spPr>
          <a:xfrm>
            <a:off x="52578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9"/>
          <p:cNvSpPr/>
          <p:nvPr/>
        </p:nvSpPr>
        <p:spPr>
          <a:xfrm>
            <a:off x="57913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0"/>
          <p:cNvSpPr/>
          <p:nvPr/>
        </p:nvSpPr>
        <p:spPr>
          <a:xfrm>
            <a:off x="77724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1"/>
          <p:cNvSpPr/>
          <p:nvPr/>
        </p:nvSpPr>
        <p:spPr>
          <a:xfrm>
            <a:off x="83059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6081120" y="56530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3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2422080" y="4662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5197320" y="4938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5166000" y="4586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2636280" y="4981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5303160" y="49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9"/>
          <p:cNvSpPr/>
          <p:nvPr/>
        </p:nvSpPr>
        <p:spPr>
          <a:xfrm>
            <a:off x="2879640" y="53481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0"/>
          <p:cNvSpPr/>
          <p:nvPr/>
        </p:nvSpPr>
        <p:spPr>
          <a:xfrm>
            <a:off x="5470560" y="5272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1"/>
          <p:cNvGrpSpPr/>
          <p:nvPr/>
        </p:nvGrpSpPr>
        <p:grpSpPr>
          <a:xfrm>
            <a:off x="3429000" y="5867280"/>
            <a:ext cx="1676520" cy="533520"/>
            <a:chOff x="3429000" y="5867280"/>
            <a:chExt cx="1676520" cy="533520"/>
          </a:xfrm>
        </p:grpSpPr>
        <p:sp>
          <p:nvSpPr>
            <p:cNvPr id="421" name="Line 22"/>
            <p:cNvSpPr/>
            <p:nvPr/>
          </p:nvSpPr>
          <p:spPr>
            <a:xfrm>
              <a:off x="3429000" y="5867280"/>
              <a:ext cx="0" cy="36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3"/>
            <p:cNvSpPr/>
            <p:nvPr/>
          </p:nvSpPr>
          <p:spPr>
            <a:xfrm>
              <a:off x="4038480" y="586728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4"/>
            <p:cNvSpPr/>
            <p:nvPr/>
          </p:nvSpPr>
          <p:spPr>
            <a:xfrm>
              <a:off x="4572000" y="5867280"/>
              <a:ext cx="0" cy="32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5"/>
            <p:cNvSpPr/>
            <p:nvPr/>
          </p:nvSpPr>
          <p:spPr>
            <a:xfrm>
              <a:off x="510552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queue that allows GC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14264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  // …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c Object dequeue() throws Exception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 empty() )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  throw new Exception()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  Object data = store[front]; 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// get front data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// set pointer to null, so it can be garbage-collected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33cc33"/>
                </a:solidFill>
                <a:latin typeface="Courier New"/>
              </a:rPr>
              <a:t>// later (when caller code doesn’t let’s go of pointer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8dc765"/>
                </a:solidFill>
                <a:latin typeface="Courier New"/>
              </a:rPr>
              <a:t>store[front] = null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ront++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return data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3124080" y="5638680"/>
            <a:ext cx="5715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"/>
          <p:cNvSpPr/>
          <p:nvPr/>
        </p:nvSpPr>
        <p:spPr>
          <a:xfrm>
            <a:off x="36576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6"/>
          <p:cNvSpPr/>
          <p:nvPr/>
        </p:nvSpPr>
        <p:spPr>
          <a:xfrm>
            <a:off x="41911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"/>
          <p:cNvSpPr/>
          <p:nvPr/>
        </p:nvSpPr>
        <p:spPr>
          <a:xfrm>
            <a:off x="472428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52578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9"/>
          <p:cNvSpPr/>
          <p:nvPr/>
        </p:nvSpPr>
        <p:spPr>
          <a:xfrm>
            <a:off x="57913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77724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83059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2"/>
          <p:cNvSpPr/>
          <p:nvPr/>
        </p:nvSpPr>
        <p:spPr>
          <a:xfrm>
            <a:off x="6081120" y="56530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2422080" y="4662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5"/>
          <p:cNvSpPr/>
          <p:nvPr/>
        </p:nvSpPr>
        <p:spPr>
          <a:xfrm>
            <a:off x="5197320" y="4938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5166000" y="4586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2636280" y="4981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5303160" y="49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2879640" y="53481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0"/>
          <p:cNvSpPr/>
          <p:nvPr/>
        </p:nvSpPr>
        <p:spPr>
          <a:xfrm>
            <a:off x="5470560" y="5272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21"/>
          <p:cNvGrpSpPr/>
          <p:nvPr/>
        </p:nvGrpSpPr>
        <p:grpSpPr>
          <a:xfrm>
            <a:off x="3429000" y="5867280"/>
            <a:ext cx="1676520" cy="533520"/>
            <a:chOff x="3429000" y="5867280"/>
            <a:chExt cx="1676520" cy="533520"/>
          </a:xfrm>
        </p:grpSpPr>
        <p:sp>
          <p:nvSpPr>
            <p:cNvPr id="445" name="Line 22"/>
            <p:cNvSpPr/>
            <p:nvPr/>
          </p:nvSpPr>
          <p:spPr>
            <a:xfrm>
              <a:off x="3429000" y="5867280"/>
              <a:ext cx="0" cy="36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>
              <a:off x="4038480" y="586728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4"/>
            <p:cNvSpPr/>
            <p:nvPr/>
          </p:nvSpPr>
          <p:spPr>
            <a:xfrm>
              <a:off x="4572000" y="5867280"/>
              <a:ext cx="0" cy="32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5"/>
            <p:cNvSpPr/>
            <p:nvPr/>
          </p:nvSpPr>
          <p:spPr>
            <a:xfrm>
              <a:off x="510552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ircular Arra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ppose many enqueue operations followed by many dequeue oper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ult:  rear approaches MAX but the queue is not really fu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lution:  Circular Arra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w rear (and front) to “wrap around” the array (if rear = MAX-1, incrementing rear means resetting it to 0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lternativ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ternative ways of visualiz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cyclic array (length 8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209680" cy="19843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"/>
          <p:cNvPicPr/>
          <p:nvPr/>
        </p:nvPicPr>
        <p:blipFill>
          <a:blip r:embed="rId2"/>
          <a:stretch/>
        </p:blipFill>
        <p:spPr>
          <a:xfrm>
            <a:off x="1066680" y="5029200"/>
            <a:ext cx="75438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mpty ope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turn (queue_of_front == queue_of_rea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move ope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(empty(queu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{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t(“underflow); exi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(queue_of_front == max-1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_of_front =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queue_of_front)++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urn (queue_items[queue_of_front]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sert oper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(queue_of_rear == max-1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_of_rear=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queue_of_rear)++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(queue_of_rear ==queue_of_fron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t(“queue overflow”);  (queue_of_rear)--; exit; 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_items[queue_of_rear]=x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ircular Array, continu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s the array full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ple answer: when (rear == fron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blem:  this is the same condition as emp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lution: Reserve a sl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ull:   when ( (rear+1) % MAX == front)   (one free slot lef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mpty: when ( rear == front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e: “wastes” a sl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ternative: have a boolean field called hasEle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ull:  when ( hasElements &amp;&amp; (rear == front)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t not really bet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asElements takes up extra space to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lso, need to take care of hasElements in enqueue and dequeu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vised En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enqueue( Object o 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(rear + 1) % MAX != front 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[rear] = o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r = (rear + 1) % MAX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vised De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42640" y="1294920"/>
            <a:ext cx="7278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dequeue() throws Excep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empty()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throw new Exception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 Object data = store[front]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[front] = nul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nt = (front + 1) % MAX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data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47920" y="1219320"/>
            <a:ext cx="72388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queue is a first-in-first-out (FIFO) sequential data structure in which elements are added (enqueued) at one end (the back) and elements are removed (dequeued) at the other end (the front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 good example is a queue. We encounter queues all the time in every day lif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What makes a queue a queue? What is the essence of queueness?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21337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"/>
          <p:cNvSpPr/>
          <p:nvPr/>
        </p:nvSpPr>
        <p:spPr>
          <a:xfrm>
            <a:off x="28195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"/>
          <p:cNvSpPr/>
          <p:nvPr/>
        </p:nvSpPr>
        <p:spPr>
          <a:xfrm>
            <a:off x="35053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403848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3048120" y="3733920"/>
            <a:ext cx="3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2362320" y="3733920"/>
            <a:ext cx="3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5"/>
          <p:cNvSpPr/>
          <p:nvPr/>
        </p:nvSpPr>
        <p:spPr>
          <a:xfrm>
            <a:off x="1600200" y="36576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6"/>
          <p:cNvSpPr/>
          <p:nvPr/>
        </p:nvSpPr>
        <p:spPr>
          <a:xfrm>
            <a:off x="1600200" y="41148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133720" y="327672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2895480" y="327672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Using the 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ueue q = new ArrayQueue(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result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the following should be enclosed in a try-catch stm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.enqueue( new Integer(5) 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.enqueue( new Integer(2) 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 = ((Integer)q.dequeue()).intValue(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result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q.enqueue( new Integer(3) 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sult = ((Integer)q.dequeue()).intValue(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ystem.out.println( result )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inked List Implement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1447920" y="3581280"/>
            <a:ext cx="12189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6705720" y="35812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95288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20040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"/>
          <p:cNvSpPr/>
          <p:nvPr/>
        </p:nvSpPr>
        <p:spPr>
          <a:xfrm>
            <a:off x="75438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579132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4038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1"/>
          <p:cNvSpPr/>
          <p:nvPr/>
        </p:nvSpPr>
        <p:spPr>
          <a:xfrm>
            <a:off x="16765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2"/>
          <p:cNvSpPr/>
          <p:nvPr/>
        </p:nvSpPr>
        <p:spPr>
          <a:xfrm>
            <a:off x="5257800" y="4724280"/>
            <a:ext cx="9907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3"/>
          <p:cNvSpPr/>
          <p:nvPr/>
        </p:nvSpPr>
        <p:spPr>
          <a:xfrm>
            <a:off x="3505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4"/>
          <p:cNvSpPr/>
          <p:nvPr/>
        </p:nvSpPr>
        <p:spPr>
          <a:xfrm>
            <a:off x="6934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5"/>
          <p:cNvSpPr/>
          <p:nvPr/>
        </p:nvSpPr>
        <p:spPr>
          <a:xfrm>
            <a:off x="18288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70866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7"/>
          <p:cNvSpPr/>
          <p:nvPr/>
        </p:nvSpPr>
        <p:spPr>
          <a:xfrm>
            <a:off x="533412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8"/>
          <p:cNvSpPr/>
          <p:nvPr/>
        </p:nvSpPr>
        <p:spPr>
          <a:xfrm>
            <a:off x="358128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243828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0"/>
          <p:cNvSpPr/>
          <p:nvPr/>
        </p:nvSpPr>
        <p:spPr>
          <a:xfrm>
            <a:off x="594360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1"/>
          <p:cNvSpPr/>
          <p:nvPr/>
        </p:nvSpPr>
        <p:spPr>
          <a:xfrm>
            <a:off x="4191120" y="3886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2"/>
          <p:cNvSpPr/>
          <p:nvPr/>
        </p:nvSpPr>
        <p:spPr>
          <a:xfrm>
            <a:off x="1235160" y="2728800"/>
            <a:ext cx="304560" cy="838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3"/>
          <p:cNvSpPr/>
          <p:nvPr/>
        </p:nvSpPr>
        <p:spPr>
          <a:xfrm>
            <a:off x="1082520" y="257652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4"/>
          <p:cNvSpPr/>
          <p:nvPr/>
        </p:nvSpPr>
        <p:spPr>
          <a:xfrm>
            <a:off x="1066320" y="2209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7528320" y="3595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6"/>
          <p:cNvSpPr/>
          <p:nvPr/>
        </p:nvSpPr>
        <p:spPr>
          <a:xfrm>
            <a:off x="6645240" y="272880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7"/>
          <p:cNvSpPr/>
          <p:nvPr/>
        </p:nvSpPr>
        <p:spPr>
          <a:xfrm>
            <a:off x="6492960" y="257652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8"/>
          <p:cNvSpPr/>
          <p:nvPr/>
        </p:nvSpPr>
        <p:spPr>
          <a:xfrm>
            <a:off x="6477480" y="2209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ObjectNode Clas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990360" y="1599840"/>
            <a:ext cx="792468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ObjectNod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 data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Node nex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Data( Object o ) { data = o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getData() { return data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setNext( ObjectNode p 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next = p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Node getNext() { return next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n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1447920" y="3581280"/>
            <a:ext cx="12189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6705720" y="35812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95288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320040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7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75438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9"/>
          <p:cNvSpPr/>
          <p:nvPr/>
        </p:nvSpPr>
        <p:spPr>
          <a:xfrm>
            <a:off x="579132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0"/>
          <p:cNvSpPr/>
          <p:nvPr/>
        </p:nvSpPr>
        <p:spPr>
          <a:xfrm>
            <a:off x="4038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1"/>
          <p:cNvSpPr/>
          <p:nvPr/>
        </p:nvSpPr>
        <p:spPr>
          <a:xfrm>
            <a:off x="16765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2"/>
          <p:cNvSpPr/>
          <p:nvPr/>
        </p:nvSpPr>
        <p:spPr>
          <a:xfrm>
            <a:off x="5257800" y="4724280"/>
            <a:ext cx="9907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3"/>
          <p:cNvSpPr/>
          <p:nvPr/>
        </p:nvSpPr>
        <p:spPr>
          <a:xfrm>
            <a:off x="3505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4"/>
          <p:cNvSpPr/>
          <p:nvPr/>
        </p:nvSpPr>
        <p:spPr>
          <a:xfrm>
            <a:off x="6934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5"/>
          <p:cNvSpPr/>
          <p:nvPr/>
        </p:nvSpPr>
        <p:spPr>
          <a:xfrm>
            <a:off x="18288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6"/>
          <p:cNvSpPr/>
          <p:nvPr/>
        </p:nvSpPr>
        <p:spPr>
          <a:xfrm>
            <a:off x="70866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7"/>
          <p:cNvSpPr/>
          <p:nvPr/>
        </p:nvSpPr>
        <p:spPr>
          <a:xfrm>
            <a:off x="533412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8"/>
          <p:cNvSpPr/>
          <p:nvPr/>
        </p:nvSpPr>
        <p:spPr>
          <a:xfrm>
            <a:off x="358128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9"/>
          <p:cNvSpPr/>
          <p:nvPr/>
        </p:nvSpPr>
        <p:spPr>
          <a:xfrm>
            <a:off x="243828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0"/>
          <p:cNvSpPr/>
          <p:nvPr/>
        </p:nvSpPr>
        <p:spPr>
          <a:xfrm>
            <a:off x="594360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1"/>
          <p:cNvSpPr/>
          <p:nvPr/>
        </p:nvSpPr>
        <p:spPr>
          <a:xfrm>
            <a:off x="4191120" y="3886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2"/>
          <p:cNvSpPr/>
          <p:nvPr/>
        </p:nvSpPr>
        <p:spPr>
          <a:xfrm>
            <a:off x="1235160" y="2728800"/>
            <a:ext cx="30456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3"/>
          <p:cNvSpPr/>
          <p:nvPr/>
        </p:nvSpPr>
        <p:spPr>
          <a:xfrm>
            <a:off x="1082520" y="257652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4"/>
          <p:cNvSpPr/>
          <p:nvPr/>
        </p:nvSpPr>
        <p:spPr>
          <a:xfrm>
            <a:off x="1066320" y="2209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5"/>
          <p:cNvSpPr/>
          <p:nvPr/>
        </p:nvSpPr>
        <p:spPr>
          <a:xfrm>
            <a:off x="7528320" y="3595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6"/>
          <p:cNvSpPr/>
          <p:nvPr/>
        </p:nvSpPr>
        <p:spPr>
          <a:xfrm>
            <a:off x="6645240" y="272880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7"/>
          <p:cNvSpPr/>
          <p:nvPr/>
        </p:nvSpPr>
        <p:spPr>
          <a:xfrm>
            <a:off x="6492960" y="257652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8"/>
          <p:cNvSpPr/>
          <p:nvPr/>
        </p:nvSpPr>
        <p:spPr>
          <a:xfrm>
            <a:off x="6477480" y="2209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9"/>
          <p:cNvSpPr/>
          <p:nvPr/>
        </p:nvSpPr>
        <p:spPr>
          <a:xfrm>
            <a:off x="6781680" y="2743200"/>
            <a:ext cx="533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30"/>
          <p:cNvSpPr/>
          <p:nvPr/>
        </p:nvSpPr>
        <p:spPr>
          <a:xfrm flipV="1">
            <a:off x="7848720" y="304776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1"/>
          <p:cNvSpPr/>
          <p:nvPr/>
        </p:nvSpPr>
        <p:spPr>
          <a:xfrm>
            <a:off x="7391520" y="2438280"/>
            <a:ext cx="1523880" cy="53352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2"/>
          <p:cNvSpPr/>
          <p:nvPr/>
        </p:nvSpPr>
        <p:spPr>
          <a:xfrm>
            <a:off x="8229600" y="2438280"/>
            <a:ext cx="0" cy="533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8214120" y="2452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4"/>
          <p:cNvSpPr/>
          <p:nvPr/>
        </p:nvSpPr>
        <p:spPr>
          <a:xfrm>
            <a:off x="7696080" y="36576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5"/>
          <p:cNvSpPr/>
          <p:nvPr/>
        </p:nvSpPr>
        <p:spPr>
          <a:xfrm flipV="1">
            <a:off x="7696080" y="365724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6"/>
          <p:cNvSpPr/>
          <p:nvPr/>
        </p:nvSpPr>
        <p:spPr>
          <a:xfrm>
            <a:off x="6705720" y="304812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7"/>
          <p:cNvSpPr/>
          <p:nvPr/>
        </p:nvSpPr>
        <p:spPr>
          <a:xfrm flipV="1">
            <a:off x="6705720" y="304776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8"/>
          <p:cNvSpPr/>
          <p:nvPr/>
        </p:nvSpPr>
        <p:spPr>
          <a:xfrm>
            <a:off x="7315200" y="1295280"/>
            <a:ext cx="990720" cy="457200"/>
          </a:xfrm>
          <a:prstGeom prst="ellipse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9"/>
          <p:cNvSpPr/>
          <p:nvPr/>
        </p:nvSpPr>
        <p:spPr>
          <a:xfrm flipV="1">
            <a:off x="7848720" y="1904760"/>
            <a:ext cx="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1447920" y="3581280"/>
            <a:ext cx="12189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6705720" y="3581280"/>
            <a:ext cx="15238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495288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200400" y="3581280"/>
            <a:ext cx="12193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8"/>
          <p:cNvSpPr/>
          <p:nvPr/>
        </p:nvSpPr>
        <p:spPr>
          <a:xfrm>
            <a:off x="75438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579132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4038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16765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5257800" y="4724280"/>
            <a:ext cx="99072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3"/>
          <p:cNvSpPr/>
          <p:nvPr/>
        </p:nvSpPr>
        <p:spPr>
          <a:xfrm>
            <a:off x="3505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4"/>
          <p:cNvSpPr/>
          <p:nvPr/>
        </p:nvSpPr>
        <p:spPr>
          <a:xfrm>
            <a:off x="6934320" y="4724280"/>
            <a:ext cx="99036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5"/>
          <p:cNvSpPr/>
          <p:nvPr/>
        </p:nvSpPr>
        <p:spPr>
          <a:xfrm>
            <a:off x="18288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6"/>
          <p:cNvSpPr/>
          <p:nvPr/>
        </p:nvSpPr>
        <p:spPr>
          <a:xfrm>
            <a:off x="708660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7"/>
          <p:cNvSpPr/>
          <p:nvPr/>
        </p:nvSpPr>
        <p:spPr>
          <a:xfrm>
            <a:off x="533412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8"/>
          <p:cNvSpPr/>
          <p:nvPr/>
        </p:nvSpPr>
        <p:spPr>
          <a:xfrm>
            <a:off x="3581280" y="3809880"/>
            <a:ext cx="2286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9"/>
          <p:cNvSpPr/>
          <p:nvPr/>
        </p:nvSpPr>
        <p:spPr>
          <a:xfrm>
            <a:off x="243828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0"/>
          <p:cNvSpPr/>
          <p:nvPr/>
        </p:nvSpPr>
        <p:spPr>
          <a:xfrm>
            <a:off x="594360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1"/>
          <p:cNvSpPr/>
          <p:nvPr/>
        </p:nvSpPr>
        <p:spPr>
          <a:xfrm>
            <a:off x="4191120" y="3886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2"/>
          <p:cNvSpPr/>
          <p:nvPr/>
        </p:nvSpPr>
        <p:spPr>
          <a:xfrm>
            <a:off x="1235160" y="2728800"/>
            <a:ext cx="30456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3"/>
          <p:cNvSpPr/>
          <p:nvPr/>
        </p:nvSpPr>
        <p:spPr>
          <a:xfrm>
            <a:off x="1082520" y="257652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1066320" y="2209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5"/>
          <p:cNvSpPr/>
          <p:nvPr/>
        </p:nvSpPr>
        <p:spPr>
          <a:xfrm>
            <a:off x="7528320" y="3595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6"/>
          <p:cNvSpPr/>
          <p:nvPr/>
        </p:nvSpPr>
        <p:spPr>
          <a:xfrm>
            <a:off x="6645240" y="272880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7"/>
          <p:cNvSpPr/>
          <p:nvPr/>
        </p:nvSpPr>
        <p:spPr>
          <a:xfrm>
            <a:off x="6492960" y="257652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8"/>
          <p:cNvSpPr/>
          <p:nvPr/>
        </p:nvSpPr>
        <p:spPr>
          <a:xfrm>
            <a:off x="6477480" y="22096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9"/>
          <p:cNvSpPr/>
          <p:nvPr/>
        </p:nvSpPr>
        <p:spPr>
          <a:xfrm>
            <a:off x="1295280" y="312408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30"/>
          <p:cNvSpPr/>
          <p:nvPr/>
        </p:nvSpPr>
        <p:spPr>
          <a:xfrm flipV="1">
            <a:off x="1295280" y="312372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1"/>
          <p:cNvSpPr/>
          <p:nvPr/>
        </p:nvSpPr>
        <p:spPr>
          <a:xfrm>
            <a:off x="1371600" y="2743200"/>
            <a:ext cx="205740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2"/>
          <p:cNvSpPr/>
          <p:nvPr/>
        </p:nvSpPr>
        <p:spPr>
          <a:xfrm>
            <a:off x="1215720" y="579132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hi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 flipV="1">
            <a:off x="2133720" y="5257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LinkedQueue Clas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LinkedQueue implements Queu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Node front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Node rear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LinkedQueue(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ont = rear = nul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other Queue metho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Applica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Queue for bill submis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Play list of audio song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Printer  job schedul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Round Robin schedul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Joseph problem discussed in boo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erforma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time needed to add or delete an item is constant and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dependent of the number of items in the queu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th addition and deletion as an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peration. For any given real machine+operating system+language combination, addition may take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c1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onds and deletion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c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conds, but we aren't interested in the value of the constant, it will vary from machine to machine, language to language,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et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key point is that the time is not dependent on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- producing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gorithm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thods are already very fast, and it's unlikely that effort expended in improving such a method will produce much real gain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iority Queue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ften the items added to a queue have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riority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ociated with them: this priority determines the order in which they exit the queue - highest priority items are removed first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situation arises often in process control systems. Imagine the operator's console in a large automated factory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ccasionally something breaks or fails and alarm messages are sent. These have high priority because some action is required to fix the proble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iority 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priority queue is a data structure in which th natural ordering of the elements does determine the results of its basic operatio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types of priority queu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cen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cen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ck can be view as descending priority queue, whose element are ordered by time of inser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ue is ascending priority queu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ue Concept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67057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Array implementation of priority Queu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delete operation in ascending priority queue. This raise two iss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cate smallest element, Every element of the array must examine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element in the middle of array be delete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iority queue deletion requires both searching and dele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olu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 empty indicator can be placed into deleted position. can be value or separate field. Disadvantages are search process to locate  max or min examine all deleted positio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deletion campact the array by shiffting all elements. So the deletion become so inefficien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tain an array as an ordered circuler array.this method moves the work of searching and shiffting from deletion operation to inser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olu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the last solution array is sorted and searching is half expensive as compared to unordered arr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ink implementation of priority queu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it yourself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me wor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isadvantage by link lis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nk list occupies more storage than a corresponding element in an arr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me spent in Management of available li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Queue applications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t serve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ains a queue of print job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k drive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ains a queue of disk input/output reques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cheduler (e.g., in an operating system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ains a queue of processes awaiting a slice of machine tim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eration on Queue using arra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se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mpt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rst-in, First-out (FIFO) 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sertqueu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insert element at re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eletequeu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remove &amp; return front el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check if the queue has no ele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mple u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ling requests and reserv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Array Implementation of Queu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1294920"/>
            <a:ext cx="84978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Object array and two integ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fron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dex of first element in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a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dex of first FREE element in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2073240" y="4176720"/>
            <a:ext cx="5715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260676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"/>
          <p:cNvSpPr/>
          <p:nvPr/>
        </p:nvSpPr>
        <p:spPr>
          <a:xfrm>
            <a:off x="313992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367344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420696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474012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0"/>
          <p:cNvSpPr/>
          <p:nvPr/>
        </p:nvSpPr>
        <p:spPr>
          <a:xfrm>
            <a:off x="672156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7254720" y="41767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030280" y="41911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3"/>
          <p:cNvSpPr/>
          <p:nvPr/>
        </p:nvSpPr>
        <p:spPr>
          <a:xfrm>
            <a:off x="1920960" y="524340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4"/>
          <p:cNvSpPr/>
          <p:nvPr/>
        </p:nvSpPr>
        <p:spPr>
          <a:xfrm>
            <a:off x="2530440" y="562464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5"/>
          <p:cNvSpPr/>
          <p:nvPr/>
        </p:nvSpPr>
        <p:spPr>
          <a:xfrm>
            <a:off x="3139920" y="524340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6"/>
          <p:cNvSpPr/>
          <p:nvPr/>
        </p:nvSpPr>
        <p:spPr>
          <a:xfrm>
            <a:off x="3673440" y="562464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7"/>
          <p:cNvSpPr/>
          <p:nvPr/>
        </p:nvSpPr>
        <p:spPr>
          <a:xfrm>
            <a:off x="2301840" y="4481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2911320" y="44816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9"/>
          <p:cNvSpPr/>
          <p:nvPr/>
        </p:nvSpPr>
        <p:spPr>
          <a:xfrm>
            <a:off x="3444840" y="4481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3978360" y="448164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1463760" y="3567240"/>
            <a:ext cx="5331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1371240" y="320040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3"/>
          <p:cNvSpPr/>
          <p:nvPr/>
        </p:nvSpPr>
        <p:spPr>
          <a:xfrm>
            <a:off x="4146480" y="3476520"/>
            <a:ext cx="5335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4115160" y="3124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1585440" y="351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6"/>
          <p:cNvSpPr/>
          <p:nvPr/>
        </p:nvSpPr>
        <p:spPr>
          <a:xfrm>
            <a:off x="4252320" y="34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7"/>
          <p:cNvSpPr/>
          <p:nvPr/>
        </p:nvSpPr>
        <p:spPr>
          <a:xfrm>
            <a:off x="1828800" y="38862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8"/>
          <p:cNvSpPr/>
          <p:nvPr/>
        </p:nvSpPr>
        <p:spPr>
          <a:xfrm>
            <a:off x="441972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rrayQueu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class ArrayQueue implements Queu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store[]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front, rear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 final int MAX = 100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ArrayQueue(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ore = new Object[MAX]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rear = 0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Check for Empty and Enqueu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143000" y="1066680"/>
            <a:ext cx="7772400" cy="32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class ArrayQueue implements Queue {  // 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boolean empty(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 // queue is empty if first element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s the same as the first free elemen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( front == rear 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void enqueue( Object o 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 // put data in first free slo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move rear index to next slo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rear &lt; MAX 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ore[rear++] = o;  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3124080" y="5638680"/>
            <a:ext cx="5715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36576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6"/>
          <p:cNvSpPr/>
          <p:nvPr/>
        </p:nvSpPr>
        <p:spPr>
          <a:xfrm>
            <a:off x="41911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472428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52578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57913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77724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830592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6081120" y="56530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2422080" y="4662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5197320" y="4938840"/>
            <a:ext cx="533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5166000" y="4586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2636280" y="4981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5303160" y="49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9"/>
          <p:cNvSpPr/>
          <p:nvPr/>
        </p:nvSpPr>
        <p:spPr>
          <a:xfrm>
            <a:off x="2879640" y="53481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0"/>
          <p:cNvSpPr/>
          <p:nvPr/>
        </p:nvSpPr>
        <p:spPr>
          <a:xfrm>
            <a:off x="5470560" y="5272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21"/>
          <p:cNvGrpSpPr/>
          <p:nvPr/>
        </p:nvGrpSpPr>
        <p:grpSpPr>
          <a:xfrm>
            <a:off x="3429000" y="5867280"/>
            <a:ext cx="1676520" cy="533520"/>
            <a:chOff x="3429000" y="5867280"/>
            <a:chExt cx="1676520" cy="533520"/>
          </a:xfrm>
        </p:grpSpPr>
        <p:sp>
          <p:nvSpPr>
            <p:cNvPr id="397" name="Line 22"/>
            <p:cNvSpPr/>
            <p:nvPr/>
          </p:nvSpPr>
          <p:spPr>
            <a:xfrm>
              <a:off x="3429000" y="5867280"/>
              <a:ext cx="0" cy="36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3"/>
            <p:cNvSpPr/>
            <p:nvPr/>
          </p:nvSpPr>
          <p:spPr>
            <a:xfrm>
              <a:off x="4038480" y="5867280"/>
              <a:ext cx="0" cy="45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>
              <a:off x="4572000" y="5867280"/>
              <a:ext cx="0" cy="32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5"/>
            <p:cNvSpPr/>
            <p:nvPr/>
          </p:nvSpPr>
          <p:spPr>
            <a:xfrm>
              <a:off x="510552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3:00:41Z</dcterms:created>
  <dc:creator>Admin</dc:creator>
  <dc:description/>
  <dc:language>en-US</dc:language>
  <cp:lastModifiedBy>qrajput</cp:lastModifiedBy>
  <dcterms:modified xsi:type="dcterms:W3CDTF">2009-10-27T08:35:37Z</dcterms:modified>
  <cp:revision>15</cp:revision>
  <dc:subject/>
  <dc:title>Queues</dc:title>
</cp:coreProperties>
</file>